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71AB-523E-47AE-94CF-B26874A5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2EA0-F12E-4709-9FA9-CF4468F70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BF6A-8473-4EC2-9A78-FC7C85F8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C067-2221-4086-AE2A-561FA34D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CAE1-97CE-48BE-BB86-A9855514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3E6B-2A6E-4509-942E-3EDB5884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CC8-94F9-455F-AF96-A60AF111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FCE4-614A-4001-B9D8-81071D41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E0D-56D6-4D8E-AE8A-59F0F590D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9DDC-62E4-4D7A-BBBF-E6791925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A885-0C4A-4F15-8974-9AD4F7C5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08F7-4AA7-4B5C-AF34-9F025DA3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4591-A04B-4D7D-BB02-907F43EDA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рок рисования на тему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Рисование с натуры или по представлению мамонтенка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460836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е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Формирование графического умения и навыка в изображении предметов сложной фор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Развивать наблюда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Воспитывать любовь к природе, гордость за свой кр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2852640"/>
            <a:ext cx="3780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монтенок Люба был найден в мае 2007 года на берегу реки Юрибей в Ямальском районе Ямало-Ненецкого автономного округа. Нашел его оленевод Юрий Худи, в честь жены оленевода и назвали мамонтенк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576108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юба оказалась уникальной находкой – ее тело очень хорошо сохранилось, уцелели и кожные покровы, и внутренние органы животного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149480" y="1700280"/>
            <a:ext cx="68450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ричина гибе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на жила  42 тыс. лет назад,   погибла в возрасте нескольких месяцев и сейчас у специалистов уже не осталось сомнений относительно причин ее смерти – Люба утонула в ре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3500280"/>
            <a:ext cx="475272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 этом свидетельствует большое количество речного ила, обнаруженного в желудке мамонтенка. Кроме того, ученые не нашли никаких признаков болезни, истощения или травм на теле мамонтенка. Видимо, Люба провалилась под лед и утонула, а холодная вода защитила тело от хищников и от разложения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то обеспечило сохранность тела в течение десятков тысяч лет в вечной мерзлоте, а затем предотвратило разложение и уничтожение его падальщиками в течение почти года после того, как тело было вымыто из мерзлоты течением реки. Поскольку тело мамонтёнка было найдено в мае, то есть до того, как вскрывается река, учёные предполагают, что оно было вынесено течением на поверхность за год до момента находки, во время половодья в июне 2006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5500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 два года, прошедшие с момента находки, Люба уже успела попутешествовать – сначала мамонтенка доставили в Салехард, в музейно-выставочный комплекс имени Шемановского, затем перевезли для более детального изучения в Санкт-Петербург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523880" y="1844640"/>
            <a:ext cx="60962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 2008 году Любу возили в Японию, где специалисты методом трехмерной томографии просканировали все тело животного и получили изображения всех его внутренних органов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7640" y="1773360"/>
            <a:ext cx="5453280" cy="38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735280" cy="2950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2914560" cy="352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3132000" y="2637000"/>
            <a:ext cx="280836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тапы выполнения рису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332000" y="1628640"/>
            <a:ext cx="61927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07:29:23Z</dcterms:created>
  <dc:creator>Наталья Аликеевна</dc:creator>
  <dc:description/>
  <dc:language>en-US</dc:language>
  <cp:lastModifiedBy>Наталья Аликеевна</cp:lastModifiedBy>
  <dcterms:modified xsi:type="dcterms:W3CDTF">2010-11-20T06:05:53Z</dcterms:modified>
  <cp:revision>11</cp:revision>
  <dc:subject/>
  <dc:title> Урок рисования на тему «мамонтенок Люба» </dc:title>
</cp:coreProperties>
</file>